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53E-8577-4266-8439-FC32D6AA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A1C-A287-4F60-BB6A-83D0C17D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7A8-3007-4F96-A24F-059A1429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D5F-264D-41F8-803E-7FDE29D4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78B83-1C77-444B-B3B0-00114FEC1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5A3B-ED59-4873-87CD-0105A337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54AE-B389-4C5C-8FBC-89443511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494C-D4EE-4AF0-9039-FBEC5A92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837E-4721-497D-B884-23D8BEAC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D004-98BD-4512-B7F1-96270313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15FF-2978-4874-AFC8-58D00718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615-3450-4741-800D-4566456F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122A-06D8-494A-A854-2851F70F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9EE0-093C-45DB-A455-77E8EA80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8D312-C0DB-4FD1-B75E-A378B3190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B41C-D8EE-4FD6-8283-0BCFC4EF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1482-A2F9-46F9-967B-06690596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6E5-D781-4B26-9C59-C5599759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536D-3847-4258-B0E2-B5939853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F6AC-EF92-4EBB-A526-CA47CB92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DE2-415F-4A92-9A14-78971C8B2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A93-1E88-46A0-9490-1D560D7B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6A9-18A8-4BFF-B2CB-82F9C09A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5E2-3B57-4019-9E30-E43DE5CA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D906-331D-4980-8D9B-14F34359A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A8093-BF65-4F5B-BF90-A8CFEF32F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junglephotos.com/amazon/amplants/trees/trees2.shtml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junglephotos.com/amazon/amplants/grasses/grasses.shtml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www.junglephotos.com/amazon/amplants/palms/palms.shtml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www.junglephotos.com/amazon/amplants/palms/palms2.shtml" TargetMode="Externa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85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The Jungl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24280" y="167652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habitat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abitat is an environment that someone or something lives 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0" y="1905120"/>
            <a:ext cx="2019240" cy="3352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920" y="2971800"/>
            <a:ext cx="2441520" cy="3657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191120" y="3048120"/>
            <a:ext cx="1768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is a jungle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jungle is land that is overgrown with tropical veget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3505320"/>
            <a:ext cx="2949480" cy="2971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733920" y="3733920"/>
            <a:ext cx="2771640" cy="18111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781680" y="2666880"/>
            <a:ext cx="18828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animals live in the jungle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86200" y="1447920"/>
            <a:ext cx="3157560" cy="2111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2390760" cy="2828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676680" cy="2451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4952880"/>
            <a:ext cx="2210040" cy="165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7620120" y="1523880"/>
            <a:ext cx="7714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What kind of plants are in the jungle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" descr="cercropia tree 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1523880"/>
            <a:ext cx="2857320" cy="1900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bamboo phot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3809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eart palm phot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71800" y="1828800"/>
            <a:ext cx="2265480" cy="3467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palm epiphytes photo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52280" y="2666880"/>
            <a:ext cx="2246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do jungle animals protect themselves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829320" cy="2872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800600" y="1981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moufl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562720" y="2743200"/>
            <a:ext cx="30668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do jungle animals get food??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hunt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5857920" cy="3124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4120" y="41148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8:02:04Z</dcterms:created>
  <dc:creator>Eldred Central School</dc:creator>
  <dc:description/>
  <dc:language>en-US</dc:language>
  <cp:lastModifiedBy>Eldred Central School</cp:lastModifiedBy>
  <dcterms:modified xsi:type="dcterms:W3CDTF">2010-06-30T19:00:11Z</dcterms:modified>
  <cp:revision>5</cp:revision>
  <dc:subject/>
  <dc:title>The Jungle</dc:title>
</cp:coreProperties>
</file>